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74F5-B7B6-4477-AA35-EDF55C11D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C7D8-DF7B-43ED-9BCB-2C4EF22A7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0659-44A0-48F7-B5F7-A96C1CC6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63520" y="681120"/>
            <a:ext cx="4538880" cy="3403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us and species are the two names used to identify specific organisms in the binomial system of classification. Division is used for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1FE6-E616-4EFA-9FC2-CA147F61A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E0E5-A131-42C8-A753-8A2DBD949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BE0-3E46-4137-B00A-33ADA068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1D7D-5F47-4055-9ED4-D0B2BCE70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14FD-A605-42DD-A6B4-3F0B5998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C126-C9CC-4B8F-82CA-FC65DC2F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41D6-A0FE-436E-83AA-7355E65F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7D68-3C66-414F-98DB-C452A7505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54F7-AF9F-4C13-914E-9CB5DB95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BEDD-1662-416D-92FB-B1BFAFC8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879-7F2E-4CE3-A4C6-EC4CC5BFA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F2C2-74B0-452D-A1BD-B4EEDF6F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DF5-0A2B-491E-BCAD-05AC42EA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36AF-64FB-4C8D-8514-F454F2FD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B284-0100-4782-AB06-30454BE6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0359-975E-49BE-996B-62A14F1B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9EBA-DC4C-475F-8B43-66F27D70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128-F702-47C8-9DCD-DD63B163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52C-A7CF-48B9-95F4-BC8DB7B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BF2-FBCA-46B9-8657-DF37EA29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9C4-3516-48D1-9519-DB037CDD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E14E-38B8-40B4-A80A-D7253C8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1FEA-8EEF-4E12-93F8-FC8F2F4A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3E9B-596A-42CF-97F4-D96FE2E2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F36-D73F-4971-A96C-DB81C66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05B9-AFEA-41D4-986E-FA3453EB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EAB7-83D0-46BF-8B78-F5487AE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7C72-317D-4C71-9F42-18C92D1D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244A-B770-46A9-B07B-C0FCF0D3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8176-47AA-46E9-B7A1-0A6056D9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DB1-2BCD-4F40-951F-E864F13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4F2-97A3-4737-BBAD-D13B118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812B-14FA-42D8-AC42-4B4A197D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8939-29F5-49D1-BBD1-A9509ABD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8CB-208E-4EBC-B337-77B3551D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FFD-20C2-4E94-9752-3D761A9D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D219-BBF7-4F75-8492-6752B8BB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C361-42DE-451B-8141-5A9D99A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975-0D23-43A5-8CD6-717B37EE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35F0-E47C-432C-8D63-0F46D4E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3FC-4B29-424F-80C3-7813667B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62ED-C1DF-41C0-816C-B1B64FED5D8B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41E2-5AF9-4857-BCD9-977E4F5752EB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22A-2A60-477F-B018-7D8AE9926409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596880"/>
            <a:ext cx="796284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663300"/>
                </a:solidFill>
                <a:latin typeface="Comic Sans MS"/>
              </a:rPr>
              <a:t>Classification</a:t>
            </a: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Footer Placeholder 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3FC5-8E0D-4EE0-B30E-8F7D42FF9BA1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3477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  <a:ea typeface="Times New Roman"/>
              </a:rPr>
              <a:t>Hierarchy-Taxonomic Groups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omai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Kingdo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hylum 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(Division – used for plants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as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mily                                                                                           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pecie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352680" y="13716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ROADEST TAXO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6" name="Line 6"/>
          <p:cNvSpPr/>
          <p:nvPr/>
        </p:nvSpPr>
        <p:spPr>
          <a:xfrm flipH="1">
            <a:off x="2285640" y="16002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6477120" y="5334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162920" y="52578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ost Specific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39" name="Footer Placeholder 10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36FE-0885-41C3-A12F-89169C3C028F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6629400" cy="6840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552720" y="0"/>
            <a:ext cx="2590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mb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ill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m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oseber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p!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EE9D-DDBB-4177-80FF-33FE6CE94484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5" name="Picture 2" descr="01_01"/>
          <p:cNvPicPr/>
          <p:nvPr/>
        </p:nvPicPr>
        <p:blipFill>
          <a:blip r:embed="rId1"/>
          <a:srcRect l="0" t="3579" r="0" b="10418"/>
          <a:stretch/>
        </p:blipFill>
        <p:spPr>
          <a:xfrm>
            <a:off x="990720" y="838080"/>
            <a:ext cx="7238880" cy="5326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5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0C2-4C79-437E-A701-179776E0B983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asis for Modern Taxonom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Homologous structur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same structure, different function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milar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mbry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developmen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Molecular Similarit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,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RNA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or </a:t>
            </a: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mino aci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sequence of Protein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C56A-0899-481E-967D-F0C2721F76A1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52" name="Picture 2" descr="Untitled-09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7913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Homologous Structures (BONES in the FORELIMBS)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ws Similarities in mammals.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D939-9C18-4F82-A051-D4391EB2D921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Cladogram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238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agram showing how organisms are related based on </a:t>
            </a: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shared, derived characteristic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uch as feathers, hair, or scal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cladogram_old"/>
          <p:cNvPicPr/>
          <p:nvPr/>
        </p:nvPicPr>
        <p:blipFill>
          <a:blip r:embed="rId1"/>
          <a:stretch/>
        </p:blipFill>
        <p:spPr>
          <a:xfrm>
            <a:off x="1143000" y="21337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159" name="Footer Placeholder 7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B94C-1B06-4A60-B971-505D80E44B58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61" name="Picture 2" descr="fig19_07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5008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14640" y="4800600"/>
            <a:ext cx="3048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mate Cladogram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6879-03D3-468D-A0B3-3FB8B66236B9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Dichotomous Key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6934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d to identify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aracteristics given in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pair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Read both characteristic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either go to another set of characteristics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dentify the organism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FC02-1B84-4E53-923F-075800E8D19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Example of Dichotomous Ke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5562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a Tentacles present – Go to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b Tentacles absent – Go to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a Eight Tentacles – Octop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b More than 8 tentacles – 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a Tentacles hang down – go to 4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b Tentacles upright–Sea Anemon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a Balloon-shaped body–Jellyfi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b Body NOT balloon-shaped - 5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8" descr="blue_ringed_octopus_art"/>
          <p:cNvPicPr/>
          <p:nvPr/>
        </p:nvPicPr>
        <p:blipFill>
          <a:blip r:embed="rId1"/>
          <a:stretch/>
        </p:blipFill>
        <p:spPr>
          <a:xfrm>
            <a:off x="5791320" y="10666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Sea%2520Anemone"/>
          <p:cNvPicPr/>
          <p:nvPr/>
        </p:nvPicPr>
        <p:blipFill>
          <a:blip r:embed="rId2"/>
          <a:stretch/>
        </p:blipFill>
        <p:spPr>
          <a:xfrm>
            <a:off x="4343400" y="5029200"/>
            <a:ext cx="2743200" cy="164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jellyfish_1"/>
          <p:cNvPicPr/>
          <p:nvPr/>
        </p:nvPicPr>
        <p:blipFill>
          <a:blip r:embed="rId3"/>
          <a:stretch/>
        </p:blipFill>
        <p:spPr>
          <a:xfrm>
            <a:off x="7329600" y="3587760"/>
            <a:ext cx="1371600" cy="2209680"/>
          </a:xfrm>
          <a:prstGeom prst="rect">
            <a:avLst/>
          </a:prstGeom>
          <a:ln w="0">
            <a:noFill/>
          </a:ln>
        </p:spPr>
      </p:pic>
      <p:sp>
        <p:nvSpPr>
          <p:cNvPr id="174" name="Footer Placeholder 10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7010280" y="6689880"/>
            <a:ext cx="21337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B07F-89AD-4EC9-8D2C-3341E040E4DD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E9F-82F7-4467-9C2A-17BA6B82B6DF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7720" y="144792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13 bill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known species of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nly 5% of all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rganisms that ever lived!!!!!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ew organism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till being found and identified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Species of Organism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B230-9C2A-40D5-B4AE-C7FA95C86375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What is Classification?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Classificati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the process of arranging organisms into orderly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based on their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imilar characteristic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axonom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is the science of classification.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axonomists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scientists that identify &amp; name organism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36A-1DFA-4FDA-822E-A1EAD7D6D046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7072" t="10003" r="9093" b="5714"/>
          <a:stretch/>
        </p:blipFill>
        <p:spPr>
          <a:xfrm>
            <a:off x="1371600" y="1371600"/>
            <a:ext cx="6553080" cy="4657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Confusion in Using Different Languages for Nam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9AF-E625-4B3A-B5C7-33A721403CC2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7923" t="10146" r="8911" b="7247"/>
          <a:stretch/>
        </p:blipFill>
        <p:spPr>
          <a:xfrm>
            <a:off x="1371600" y="16765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Latin Names are Understood by all Taxonomist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06BA-FA42-4FE8-AFA8-5DE9731A5F4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Carolus Linnaeus</a:t>
            </a:r>
            <a:br>
              <a:rPr sz="4400"/>
            </a:b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1707 – 1778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3505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8th century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onomis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assified organisms by their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truc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veloped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naming syste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ill used toda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4" descr="linneaus"/>
          <p:cNvPicPr/>
          <p:nvPr/>
        </p:nvPicPr>
        <p:blipFill>
          <a:blip r:embed="rId1"/>
          <a:stretch/>
        </p:blipFill>
        <p:spPr>
          <a:xfrm>
            <a:off x="4648320" y="1219320"/>
            <a:ext cx="2414520" cy="3633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system_natura"/>
          <p:cNvPicPr/>
          <p:nvPr/>
        </p:nvPicPr>
        <p:blipFill>
          <a:blip r:embed="rId2"/>
          <a:stretch/>
        </p:blipFill>
        <p:spPr>
          <a:xfrm rot="572400">
            <a:off x="6477120" y="2971440"/>
            <a:ext cx="212868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Footer Placeholder 8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6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A49D-2972-4BDD-80D4-47A4BCBE3637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Standardized Naming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4267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Binomial nomenclatur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Genus spec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Latin or Gree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Italicized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in pri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apitalize genus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, but NOT speci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derline</a:t>
            </a: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 when writing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D:\chapter19\fig19_05_1.gif"/>
          <p:cNvPicPr/>
          <p:nvPr/>
        </p:nvPicPr>
        <p:blipFill>
          <a:blip r:embed="rId1"/>
          <a:stretch/>
        </p:blipFill>
        <p:spPr>
          <a:xfrm>
            <a:off x="5715000" y="838080"/>
            <a:ext cx="312408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5791320" y="121932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Turdus migratori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095880" y="62485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erican Rob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0" name="Footer Placeholder 9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063A-0057-46AB-9980-5115CDBEDEE5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Comic Sans MS"/>
              </a:rPr>
              <a:t>Binomial Nomenclatur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3" name="Picture 8" descr="three_bears"/>
          <p:cNvPicPr/>
          <p:nvPr/>
        </p:nvPicPr>
        <p:blipFill>
          <a:blip r:embed="rId1"/>
          <a:srcRect l="67089" t="0" r="1886" b="0"/>
          <a:stretch/>
        </p:blipFill>
        <p:spPr>
          <a:xfrm rot="21402600">
            <a:off x="304920" y="1143000"/>
            <a:ext cx="2943000" cy="360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three_bears"/>
          <p:cNvPicPr/>
          <p:nvPr/>
        </p:nvPicPr>
        <p:blipFill>
          <a:blip r:embed="rId2"/>
          <a:srcRect l="34385" t="0" r="35430" b="0"/>
          <a:stretch/>
        </p:blipFill>
        <p:spPr>
          <a:xfrm rot="193800">
            <a:off x="2971440" y="2286000"/>
            <a:ext cx="2863800" cy="360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three_bears"/>
          <p:cNvPicPr/>
          <p:nvPr/>
        </p:nvPicPr>
        <p:blipFill>
          <a:blip r:embed="rId3"/>
          <a:srcRect l="0" t="0" r="67929" b="0"/>
          <a:stretch/>
        </p:blipFill>
        <p:spPr>
          <a:xfrm rot="249600">
            <a:off x="5943240" y="1371600"/>
            <a:ext cx="2914560" cy="3448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685800" y="6248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ich TWO are more closely related?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7" name="Footer Placeholder 9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7010280" y="6689880"/>
            <a:ext cx="2133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95E4-6CB1-48FD-9E3C-EE146470D872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Comic Sans MS"/>
              </a:rPr>
              <a:t>Classification Group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ax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plural) is a category into which related organisms are place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re is a </a:t>
            </a: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hierarch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f groups (taxa) from broadest to most specific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6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copyright cmassengale</a:t>
            </a:r>
            <a:endParaRPr b="0" lang="en-US" sz="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4:48:58Z</dcterms:created>
  <dc:creator>Cheryl Massengale</dc:creator>
  <dc:description/>
  <dc:language>en-US</dc:language>
  <cp:lastModifiedBy>USUARIO</cp:lastModifiedBy>
  <dcterms:modified xsi:type="dcterms:W3CDTF">2012-08-22T19:53:52Z</dcterms:modified>
  <cp:revision>57</cp:revision>
  <dc:subject/>
  <dc:title>Chapter 18 Classification</dc:title>
</cp:coreProperties>
</file>